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A9A-B521-4332-835E-AA98106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BCC-C565-4532-9FDD-98A6E94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CD9-1837-4EAB-8FC3-9AACA97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24F-3192-4050-AD5D-1659D7D0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FEF3-A6C6-43C7-AE64-77765279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035-AEED-44E7-BB31-8AC1481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036C-A833-4C4D-B622-D188C5F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49DA-6211-4CA0-95AF-01E630E6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A4B-FDA1-4603-8B0D-61E0D47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657B-7219-4BA6-9C24-120A2FA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B42-7148-4B6E-9FDA-E0E2B58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F99-9822-4427-83B3-ACAF97C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1511-D849-4650-96D8-9AA70DC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929-CA78-45FB-A348-83B07D7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6172-79CF-4287-A1F8-CB18E02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5592-276B-42AA-A328-B059929D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5AB-2525-4E18-9510-E5D3CF6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C0F-9A8F-4DC2-8FD0-61D3E982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0A4-93C1-4915-A10E-A320899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EFC-D071-4813-A929-52DA59E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316-389D-45AB-8630-4407FF0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D14-895A-49ED-81C1-912250A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24F-3666-4C19-9480-FF0CB83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993-8B0F-4F48-A7CF-5546FCD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C28-B476-41EE-842D-44C16C8E2D8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C053-9D1B-45C3-8BAF-66FBEF44C33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СКАЛЬНАЯ ЖИВОПИСЬ В ЭПОХУ ПЕРВОБЫТНОГО МИР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33523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Егоренко Анастасия, студентка 4 курса филологического факультета КГПИ, г.Сыктывкар, 2010 г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Основополагающий вопрос проекта: </a:t>
            </a: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чему люди рисуют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438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6782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кое значение имеет наскальная живопись в настоящее время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такое наскальная живопис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аких частях света найдена наскальная живопис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мы узнаем о быте народа по наскальной живописи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знакомить  учащихся с наскальной живописью Первобытной эпох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ивить любовь к истори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ыставка рисунков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эссе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сочинения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творческие презентации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043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узнать к какой культуре первобытной эпохи относятся первые произведения искусств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какой стиль наскальной живописи использовали первобытные люди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Археологи так и не обнаружили в древнекаменном веке пейзажных рисунков. Почему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какой культ прославляли первобытные люди , изображая его в пещерах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ещеру Альтамир рассматривает группа, состоящая из мальчиков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вочки рассматривают подробно пещеру Ля-Мут во Франци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выполнения: 2 недели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личество часов: 8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личество уроков: 10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33440" y="26820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  ВСЕОБЩАЯ ИСТОРИЯ МИРОВОЙ КУЛЬТУРЫ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ГЕРМАН ВЕЙС.- М.:2006 г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УЧЕБНИК ПО МХК, 7 КЛАСС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  МЕТОДИЧЕСКИЕ ПОСОБИЯ ДЛЯ УЧЕНИКОВ 5-9 КЛАССОВ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/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 ХАРЧЕВА, 2007 г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равченко А.И. Культурология: Учебное пособие для вузов. - 3-е изд.- М.: Академический проект, 2001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8:06:41Z</dcterms:created>
  <dc:creator>НАСТАСЬЯ</dc:creator>
  <dc:description/>
  <dc:language>en-US</dc:language>
  <cp:lastModifiedBy>студент</cp:lastModifiedBy>
  <dcterms:modified xsi:type="dcterms:W3CDTF">2010-04-02T10:46:31Z</dcterms:modified>
  <cp:revision>14</cp:revision>
  <dc:subject/>
  <dc:title>Слайд 1</dc:title>
</cp:coreProperties>
</file>